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79C-BECE-41A7-A714-1FF43A09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C1B-DD2E-40A8-832D-4482A278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E70EA-07EB-4450-9244-06AE5F11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9B7A6-F6E1-43D1-9B1D-9AFAB61C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D9659-1327-436B-A4ED-6AE3757D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333E3-181C-4CBE-962C-51C28230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FDB16-2F77-4F10-9871-5719751A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6C2AC-5FA4-4AF8-BD95-B5F0FD06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03D59-6A45-4933-B694-AC79E0C2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4D7C7-981F-4E5F-806A-8150B38F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5B030-AF14-41A3-A04B-C33F8012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07D03-F546-4544-8B14-3347C7D7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22D-C76E-489C-9245-83015BDE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EA61C-C1F5-4414-85D9-153A2543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99BAD-8FFB-44A9-8542-50D784BB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BC633-8E78-44BB-B336-70CFA3CB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F5479-E564-4067-87F8-B7B7272B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55C38-1F0B-4518-BDF3-95A602E9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3EBE3-99B6-404D-914D-ECAFFA77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63108-71DD-4CC4-BFDA-609302C9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0072C-C05D-4222-BBAD-3AFE83E9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F7E58-28FF-45DF-9A02-44AF9C9A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F6C90-D5B3-46FE-9DCF-D0A7EB3A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F68-9A5D-463B-9E3D-0F9FF941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F6527-6376-47E4-AFB2-A8D8B4D6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8994A-BC9E-4852-A821-AD47BB8C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5B0BB-AE0E-4CC5-B281-60C0B83E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23248-4530-46B0-AF85-04B7210D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8CD96-DF2E-4D8E-86FE-1F1C4575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A582D-F6F0-4394-94BA-8EB63728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74777-2B02-43AB-B852-274659E3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DB2E7-E249-4991-A5D8-48866672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739A0-BA42-476A-A0CA-1129ED70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9D74D-A118-47F3-B08D-43A7D702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91B9-5C77-4381-A893-324E1F07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BE108-1D81-422D-8040-D47FC900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F8BDF-9455-4074-B659-6D32151F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23314-D81E-451E-BFEA-2E9F676F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74403-88BD-4005-AC5B-324C5D91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F9C47-B061-4451-959B-0CF2C9EF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88496-ED96-4FF4-815A-2C18DABE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9DF7C-1E13-47BE-90FF-E9BEF5A3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D9D2F-507D-4910-93E7-CAE6F2FF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ED936-5214-4672-8AD4-0ADC975F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652AB-EEBC-4F68-9240-9A279A56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1EA2-2E5C-4797-9434-CE6B9CB8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7E235-21EF-4FF0-91CA-FBC96801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B1DF2-3D7C-4FB4-8F2D-484579C9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EE23F-29E0-4CAD-BB47-C3EC975D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8F376-5E37-4A4B-815A-4716DD14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4C5C7-5F32-4AD5-85BB-11630A4F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3E6E7-8307-4B55-BEB2-DC22EAFD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3E8B3-D693-4F46-9787-F108925D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50E63-E342-4782-925F-0DD7276B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3A541-4B1E-49AC-8A11-8D7EABCF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9940F-FC0C-48E4-AC43-9A8F2337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3F1A-0AC8-4CC2-9F88-2DE0FE0C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E9B29-9BD3-4048-94FC-68B6BDD4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254C2-260A-40BD-A769-E34D8539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52DF2-6B7F-48F3-A258-2EB16EBE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C0C99-C5FC-407B-91E5-830FB630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A8FD4-6F5A-401F-B3BE-708F308E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CD543-8AA3-4A94-B535-D4E03E95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ED93FF-000E-4802-B779-F9F165F2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73600-E2F1-468C-879D-7B30DFB5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F48E0-BDDB-4200-AA24-D0BB26CC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563B3-6222-417C-9899-4A24A00A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04C6-1F1C-42BA-B2DE-EB484175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FD220-FEF9-4CF3-940C-E54558D2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7B8D4-9585-4D11-9C68-43B23966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9362A-F5E6-491D-8ACA-06275A5F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C871E-15E4-4948-9517-14D0917D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49793-410E-4C4E-A708-C32458A7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1645C-D05E-4023-86EA-F6C7CE7E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17008-912F-4C43-9F51-EB4FEE84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B628D9-7F98-45FC-BBE7-23E25B4C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46E49-8D47-4BCF-BD97-6C739C7E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183CBA-8238-41F1-9FC3-E53C574D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C75C-7D88-4B10-964D-57883629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1CACA-C4C4-4C85-A7D0-A57F2673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1EBD8-2928-4B72-917F-72DB3AB8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5880A-4BBD-4A7C-9AF9-A8CEBEDE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D5A24D-7693-408D-B806-C56A5C64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C3ED0-FAC8-4B8C-8FAD-D8CB869C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C358ED-796E-4211-A406-E6A15FDA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2446E4-8551-482B-8EC9-112DC305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D00275-4D4B-4927-9E15-F5E1D3E3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4590C2-495C-4E8F-938B-D001C674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548E87-12FB-4FD4-99A0-749C9899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B5D3-3933-4C58-A643-83E42FFA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0839A0-3641-4C0D-8A34-88A9601E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C5330B-3874-4E62-A488-B9AA2A4B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4234EE-EF88-4CD7-A8D5-0B8D3250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D55EA-A8FD-445E-A3EF-27877321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205BA2-4885-4199-ACA1-126BE23C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26B81B-6CAE-4C6F-A533-AA2832F9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245461-EEE5-478D-8D50-17C1F83C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7A322-17D1-4874-8888-41D82540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47B788-614D-4BBF-8675-485A9821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54618B-E040-4EB3-B2BC-506AAD02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7450-280C-41B8-A651-EF2D8BDD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7678CB-1337-4D4E-97EF-64CBFF29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F02033-3FF6-403D-A13F-6467E6C6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90DEF5-467E-4F28-8411-994C7D93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605D6-9952-4A2B-9D7D-8491C8DC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33ED34-7870-496E-A548-9D0C8ED5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8B02C-A9CA-4429-83AF-5EA15EB7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E71FD-29BA-44F8-9CDE-58BD8A4C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7E1763-0DC9-48A9-BF62-B978B35A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B529A8-9B98-4555-82DE-CC6EE573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E50B95-7DD9-4D32-B8FA-4FDC5E95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54B-C4C5-4AAD-AF71-CB1DDFDD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F5CC-CE2B-4DF1-AB90-B9E79D40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3C5D35-D237-4042-BC46-2B0FD2D3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A254A9-C0E6-4A82-82EA-CD6FC0D6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590DC1-887A-4B80-8331-6108498A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2DBC04-A3F8-47B4-AE9A-E98FDCD0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C75E1A-FED5-4B6E-8CAB-36568F51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9F6CF-2B02-4AC6-A72A-2865ACD2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69BA41-8D36-4733-B378-669833CA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53DD75-8151-4904-BBB2-FCB73A84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440E27-86C0-46FA-B338-9534CA94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03F64-452F-4287-B19A-454513F9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1FFF-B37D-4E5C-B699-A76B0571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023509-BE1D-4B68-BAC1-ACC1CD00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38939A-9952-4669-BA04-92D5313F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759260-EB1D-4931-81BD-0D92019B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6A76EF-07D2-4A88-BBD6-FC7A85E3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675552-E86F-4632-80C6-6BF431A2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F64442-7FAF-449B-86ED-F3AFBF63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CE68D6-6C95-4B13-8B7E-A6E0D5E9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3CAEB8-AA2A-47A0-AB14-5ADA0084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771669-2E62-430C-AB22-FD7D3A8D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2AEFEF-9E6B-4D7C-8C05-21226F04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E580-616F-4315-8644-B3446984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6AE3F-2E6F-4E84-9DC6-B67683D6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26B85E-095D-49BD-85AA-67A9F5B2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7BD826-3131-40C6-B49A-B8D0C09C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D033C2-97C2-44A4-B035-DC41C754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54787F-9DBA-4B9B-9047-11DFA8EA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908A0D-F120-4418-BB95-B0294ABF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5B2E4D-1EA3-4FC5-BFDE-D30C9F92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BE8A98-FD33-4198-86ED-4E8A9AD2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611B4C-EA67-40B7-BB46-E36EE917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5AE078-DD49-41DE-B58C-9F99ADAC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0DCC-FA72-40B9-A070-327DED6A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6092ED-EBA7-4879-8F08-12EF1119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6474C1-C4A2-43AC-97B4-83D2E77C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5A1F58-38FA-4394-BD34-456A08B4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DF93AD-7696-49B3-8421-39DFCC5E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26D43C-03D4-4F10-ABC4-CA223542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67FCC4-66D0-4438-8BCF-D284842A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F117C1-065C-4FCC-91CA-52DF438A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7C084B-66DF-4FD8-BB2B-F019A022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AD22C5-25DF-4F52-A281-C7272BF4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AC9A87-EE61-4A23-B96E-78616651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6322-B81E-4AF6-85C3-E3C5A862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BED9DA-E159-421F-97B6-D8BD5E65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097B93-276C-462C-A50C-DFF9854E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AFBA94-AA18-4D33-8A7F-C19257A1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4B5CE4-FFE0-481D-9315-F38CD6BA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ED2E4B-5480-4CFA-9247-0B898F78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8194C7-8DFD-47CF-94C3-F5D192C6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A58540-A85A-40CA-969D-F9C4A201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4EBE7E-9AC3-4B26-ACA3-E66A2E07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6FF2EB-9935-44B5-A9C0-250C3DB5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F456F6-F9FD-4C3D-B396-FF801BDD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8574-5875-444C-8598-BB7979CE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1A0E53-C978-41BA-AB66-921AFD52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A0D7B1-2D7B-4CD3-A249-17FF5EAE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DFD4AE-36C2-43A4-B4B3-A9457BEE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7F20F-9361-4432-A00A-E6C9AB6B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07E4-2E99-4C92-8496-041B2EE0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5453D-1847-46A9-8D8E-47A9EEEF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70E5-E725-474E-9349-1957744C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22D-F8B0-4EEC-BA9C-A79D92E1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EA158-F5D2-4F71-8D62-6701167A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B6336-809A-4F3B-8C1F-6E2D57D5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7003-3A23-4F46-ACC3-1E3F90DD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41C4-6ADA-4167-8DEA-F0B8E465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795E2-F744-4887-AAE1-3B7071F3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AAD9B-3182-4666-9E0C-F5AB7AAD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32CFC-6E77-44AC-87FF-B5249040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FC9E8-625F-4BDD-A8CC-3EE59ADD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9E041-7AA2-4BC5-8CF9-AA8BB987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8430B-6262-43F4-A151-31B76137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C62-A27A-4539-8797-31B6F444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10DFF-B1BD-4888-8068-DAB6536B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2F36E-E924-4F5F-83AD-C78CCB22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50BE-6547-49D6-9E5B-935ADDC4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35C7B-03C0-4ED0-946C-B052C892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0C430-24BF-457E-B91C-06213E6F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69B0C-5F7E-4AC7-9DE5-0E80DA4F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24BDC-3927-4285-93A5-EC35C1C1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80ED3-7281-4D49-A4B1-8C50A1BC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5E9C8-8A88-4260-A579-C5F8A2C0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3B32E-F2B4-4543-9899-CA81F316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645-6BC4-4D09-B41E-2479A1EC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CA91E-16C7-4719-ACC6-E94B3DA2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11A6A-97B3-4673-A711-C5C31A3F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79AD5-8714-4D43-9BCD-96626CBF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7F988-144A-4B84-A0D7-4DEDE400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B2CDD-39D1-47D9-88AE-A2D2961C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679EB-7B03-49CC-AFEA-85FE596A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D0CE6-9206-4E55-A156-3837BF9D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75F62-A9BA-4B33-B5B6-C0C110F3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05A50-A9CC-418A-AD7A-5D7B7CBE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26530-F445-49FB-80C0-EBB57F54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BF7-FD09-4F19-8F16-185E3942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8F676-8705-485E-BCFD-A9417955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583C9-5E99-49C5-A441-E134242D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D6A10-00E4-4921-9825-58CAD17A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00FC7-BC21-46F6-B75E-DCF04502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EE8C0-F581-43A3-B054-06861ED0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BBE52-34D6-4CE8-BA8B-06B673C2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FFC29-9537-4457-8004-709E3038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56595-863F-4B40-B839-262E0294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FAAF1-C1AF-4613-B526-79C0A6A1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9FD72-4CEA-4201-A8AB-694338ED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D50-BAA6-4B1C-B0D2-78D2DCA2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D7700-D5DA-4B35-860B-154832DC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B0FA0-D7FD-4C23-BF53-340CE8C0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F670F-F138-4339-A449-2A64012A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A1343-E6D5-4E10-A904-64BAEF61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20EF0-7DCD-4FFC-98DA-1D2A0F02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7B3CF-C33B-43EF-A8E2-A96EF10D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297E1-8D56-4C1A-A110-8A6CA288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1FF51-31C1-4A3E-B4A7-DD7337E0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B3227-BC30-406D-92C7-19B27F73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B4FD7-5BD8-4C67-98AA-C5C812BE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777-0D7D-4660-8615-C4B392B6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DEC95-FDA3-4CB4-990C-E013218C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61808-AD2B-4035-879C-D8AD7ED8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23C08-8387-4FAC-AA65-F6D5EE27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D476D-7E63-4FF8-9424-AB988C4E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59E95-7B72-44A9-A6C9-8D63D885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54F50-5063-4D59-83F4-7191A064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140A6-F165-4331-B781-8D0D59FB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D6FEB-9E43-480D-907C-03AD3E37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D24AD-AF84-43C7-9CF8-D47192CC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57E9B-AACA-4982-B95B-7CD366E0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8A9-B15F-4CFF-9584-42AC941C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AF95B-F7FA-4B55-8E87-04D2DD35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D90A3-10B9-43B0-9077-46779B85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8B2E7-3AC8-48A0-A291-02809176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609BC-42C6-4DD4-ABF4-63579BEE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0FEA6-C6DD-4974-BF04-1CEE38CC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26BCA-E5C5-4B39-BE91-B6E87700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389F9-E457-4318-9B12-5755C6F8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0E1CA-99B6-4A33-A28E-10D9D051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FD69D-2E41-483A-B4BB-4CE11577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3B32A-FD13-42E7-9C3D-2C3B8200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27CC-8D0D-40E9-B389-5C3D1F2BB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CBF5-44E8-4FFD-8F75-4B17C65560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2BF2-D824-4B32-A962-A590790AFC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5C7D-35A1-414B-BFC5-7616A79ED9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08F2-052F-4ED1-9A94-97BB7053B7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8DB2-3B5D-4BFD-9823-115082E6D6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85D4-3C26-446F-98E2-0ECBD05B0E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16FC-97CF-4BE7-A879-6D0049EF57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8285-CA82-4038-AFC3-6064D42436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83A4-B767-4CD2-8854-067F90E499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0C84-D761-4620-9D5B-ED3BA433B0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E2FF-EC71-44EF-BBF6-516C4B02B8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2830-F0C5-4471-9B05-8B88EB1979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6875-FF14-4EFB-AF5F-418CFB8A11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D56D-FD6F-4D7F-A546-243BDA709E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A448-12A9-46EE-B433-3924F45EC2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D009-E5D9-499B-886C-C59062600D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BE10-7915-4C51-AD06-9EFE2A95DA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E9CD-4543-4725-93E2-F28D195503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7C80-BFAE-4549-86EB-38FAB13260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5B42-204F-47CE-B3B1-6150E0C78E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F7F6-C039-49B0-979E-5FDCA64DDC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2989-0A3E-4599-BD44-1E1D5C05CF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CD0F-DAAA-467E-B0FD-CE024E9A21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7465-480F-4DA0-8341-DBAE549877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4FF3-BF0B-43AC-A59B-F9D917187F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9BD5-9C37-4AB2-9854-8A6828205D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8EA0-87DD-405B-85B7-7FB3E25AB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EA0E-888F-4E86-992A-517B0D427D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75E9-082F-4BF5-9AF4-B8890B5DDE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FA03-4AA4-4801-9E57-7CFD10808B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1DE3-FB55-41A5-B441-AD2A722E18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A385-5171-4B32-B2D9-89DAC75A02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DB63-2EB4-4D4F-8A38-2E9721BDDA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3F55-BC27-4950-9456-A010BBC7B7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E948-24B9-437F-BF22-5208CFCDAE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B19A-A360-4455-B129-E71EAC1E23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A643-81E2-43CB-8BE5-778E6739CE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B270-B610-4E17-909D-F91297E4E5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5522-4452-473E-87F5-DC5ED5448D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42920" y="3265560"/>
            <a:ext cx="878688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Picture 2" descr=""/>
          <p:cNvPicPr/>
          <p:nvPr/>
        </p:nvPicPr>
        <p:blipFill>
          <a:blip r:embed="rId1"/>
          <a:stretch/>
        </p:blipFill>
        <p:spPr>
          <a:xfrm>
            <a:off x="900000" y="966960"/>
            <a:ext cx="7344000" cy="56768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" descr=""/>
          <p:cNvPicPr/>
          <p:nvPr/>
        </p:nvPicPr>
        <p:blipFill>
          <a:blip r:embed="rId2"/>
          <a:stretch/>
        </p:blipFill>
        <p:spPr>
          <a:xfrm>
            <a:off x="3851280" y="1144440"/>
            <a:ext cx="1512720" cy="4381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3"/>
          <a:stretch/>
        </p:blipFill>
        <p:spPr>
          <a:xfrm>
            <a:off x="3851280" y="2529000"/>
            <a:ext cx="1512720" cy="4363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" descr=""/>
          <p:cNvPicPr/>
          <p:nvPr/>
        </p:nvPicPr>
        <p:blipFill>
          <a:blip r:embed="rId4"/>
          <a:stretch/>
        </p:blipFill>
        <p:spPr>
          <a:xfrm>
            <a:off x="6227640" y="2523960"/>
            <a:ext cx="1800360" cy="4384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5"/>
          <a:stretch/>
        </p:blipFill>
        <p:spPr>
          <a:xfrm>
            <a:off x="5651640" y="3186000"/>
            <a:ext cx="1800000" cy="4381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3" descr=""/>
          <p:cNvPicPr/>
          <p:nvPr/>
        </p:nvPicPr>
        <p:blipFill>
          <a:blip r:embed="rId6"/>
          <a:stretch/>
        </p:blipFill>
        <p:spPr>
          <a:xfrm>
            <a:off x="3995640" y="3913200"/>
            <a:ext cx="1224000" cy="4366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3" descr=""/>
          <p:cNvPicPr/>
          <p:nvPr/>
        </p:nvPicPr>
        <p:blipFill>
          <a:blip r:embed="rId7"/>
          <a:stretch/>
        </p:blipFill>
        <p:spPr>
          <a:xfrm>
            <a:off x="6207120" y="3913200"/>
            <a:ext cx="1800360" cy="4366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3" descr=""/>
          <p:cNvPicPr/>
          <p:nvPr/>
        </p:nvPicPr>
        <p:blipFill>
          <a:blip r:embed="rId8"/>
          <a:stretch/>
        </p:blipFill>
        <p:spPr>
          <a:xfrm>
            <a:off x="5724360" y="4581360"/>
            <a:ext cx="1800360" cy="4384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3" descr=""/>
          <p:cNvPicPr/>
          <p:nvPr/>
        </p:nvPicPr>
        <p:blipFill>
          <a:blip r:embed="rId9"/>
          <a:stretch/>
        </p:blipFill>
        <p:spPr>
          <a:xfrm>
            <a:off x="6259680" y="5305320"/>
            <a:ext cx="1800000" cy="4381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3" descr=""/>
          <p:cNvPicPr/>
          <p:nvPr/>
        </p:nvPicPr>
        <p:blipFill>
          <a:blip r:embed="rId10"/>
          <a:stretch/>
        </p:blipFill>
        <p:spPr>
          <a:xfrm>
            <a:off x="5651640" y="5979960"/>
            <a:ext cx="180000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42880" y="1157400"/>
            <a:ext cx="8058240" cy="50576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857240" y="5369040"/>
            <a:ext cx="2448000" cy="8571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5572080" y="5357880"/>
            <a:ext cx="2448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1000080" y="1638360"/>
            <a:ext cx="7143840" cy="3581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2"/>
          <a:stretch/>
        </p:blipFill>
        <p:spPr>
          <a:xfrm>
            <a:off x="1643040" y="4429080"/>
            <a:ext cx="2448000" cy="8571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3"/>
          <a:stretch/>
        </p:blipFill>
        <p:spPr>
          <a:xfrm>
            <a:off x="5357880" y="4417920"/>
            <a:ext cx="24480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519120" y="1238400"/>
            <a:ext cx="8105760" cy="47624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1652760" y="2133720"/>
            <a:ext cx="471240" cy="4363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3"/>
          <a:stretch/>
        </p:blipFill>
        <p:spPr>
          <a:xfrm>
            <a:off x="1692360" y="277488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4"/>
          <a:stretch/>
        </p:blipFill>
        <p:spPr>
          <a:xfrm>
            <a:off x="1692360" y="349560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5"/>
          <a:stretch/>
        </p:blipFill>
        <p:spPr>
          <a:xfrm>
            <a:off x="1692360" y="414324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6"/>
          <a:stretch/>
        </p:blipFill>
        <p:spPr>
          <a:xfrm>
            <a:off x="1630440" y="5516640"/>
            <a:ext cx="469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542880" y="1119240"/>
            <a:ext cx="8058240" cy="53816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2"/>
          <a:stretch/>
        </p:blipFill>
        <p:spPr>
          <a:xfrm>
            <a:off x="1763640" y="191628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3"/>
          <a:stretch/>
        </p:blipFill>
        <p:spPr>
          <a:xfrm>
            <a:off x="1725480" y="3933720"/>
            <a:ext cx="47016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7324920" cy="31813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2" descr=""/>
          <p:cNvPicPr/>
          <p:nvPr/>
        </p:nvPicPr>
        <p:blipFill>
          <a:blip r:embed="rId2"/>
          <a:stretch/>
        </p:blipFill>
        <p:spPr>
          <a:xfrm>
            <a:off x="2614680" y="4495680"/>
            <a:ext cx="4600440" cy="17910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3"/>
          <a:stretch/>
        </p:blipFill>
        <p:spPr>
          <a:xfrm>
            <a:off x="1332000" y="105264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4"/>
          <a:stretch/>
        </p:blipFill>
        <p:spPr>
          <a:xfrm>
            <a:off x="1332000" y="3716280"/>
            <a:ext cx="469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8115480" cy="53244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1763640" y="1125360"/>
            <a:ext cx="471600" cy="4366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3"/>
          <a:stretch/>
        </p:blipFill>
        <p:spPr>
          <a:xfrm>
            <a:off x="7093080" y="3892680"/>
            <a:ext cx="1366560" cy="4363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4"/>
          <a:stretch/>
        </p:blipFill>
        <p:spPr>
          <a:xfrm>
            <a:off x="1701720" y="5897520"/>
            <a:ext cx="1368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Picture 1" descr=""/>
          <p:cNvPicPr/>
          <p:nvPr/>
        </p:nvPicPr>
        <p:blipFill>
          <a:blip r:embed="rId1"/>
          <a:stretch/>
        </p:blipFill>
        <p:spPr>
          <a:xfrm>
            <a:off x="843120" y="1814400"/>
            <a:ext cx="7457760" cy="32292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136836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3"/>
          <a:stretch/>
        </p:blipFill>
        <p:spPr>
          <a:xfrm>
            <a:off x="1692360" y="3141720"/>
            <a:ext cx="1366920" cy="4366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4"/>
          <a:stretch/>
        </p:blipFill>
        <p:spPr>
          <a:xfrm>
            <a:off x="2627280" y="4508640"/>
            <a:ext cx="1368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Picture 1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1439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4:3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